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795-AA7C-4AFE-A867-04BC6D0F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8CF-90DD-43E3-8068-5FCC6C9D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F6C-33E5-43B4-9C6D-1FF21EC0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067-2D0B-42EC-BF82-546BFB94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4A6-FEB3-49E8-9B2F-5AE73E3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C73-15F0-45EF-AE1E-49F5312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D19-C6CB-4998-9B5D-CE3A548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E2E-C853-4DED-81A8-9A2506B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533-85CF-4EE2-BA94-60176778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464-31A6-4A2A-8AFD-9AD6741D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D7B-C192-40AE-92A4-8E71568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1E2-06BA-48FA-B07D-7B61D342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37C-F927-45D4-A48E-D124A20D7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3400" spc="-1" strike="noStrike">
                <a:solidFill>
                  <a:srgbClr val="000000"/>
                </a:solidFill>
                <a:latin typeface="Calibri"/>
                <a:ea typeface="Arial"/>
              </a:rPr>
              <a:t>ПРЕВЕНЦИЈА СПОРТСКИХ ПОВРЕ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3808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а припрема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бро је позната чињеница да постоји корелација између концентрације, крупне грешке на тренингу (такмичењу) и повред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6196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И ФАКТОРИ РИЗ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304920"/>
            <a:ext cx="5562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ке особе имају природно равне табане који се изразито окрећу (пронација) на унутрашњу страну за време трчања. Нормални покрети током трчања подразумевају и малу пронацију, до које долази сваким кора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пронација може бити штетна, јер узрокује понављано излагање стресу доњег дела ноге и може доћи до повреде због преоптерећења. Због тога, као најчешћа повреда преоптерећења везана с равним табанима и стопалима која се изразито уврћу на унутрашњу страну, јављају се стрес фрактуре и постериорни тибиални тендинити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уштен свод стопала и пронација не изазивају само проблеме на стопалу него утичу на целокупне доње екстремитете, укључујући колена и кукове, јер оба стања доводе до унутрашње ротације ног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29080" cy="424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5562720" y="457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натомске анома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Године/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лике разлике између полова нису уочљиве до пубертета. Након пубертета, код девојчица је проценат телесних масти 6–10% већи него код дечака. Такође, попречни пресек мишића је већи код дечака, што се задржава и даље у току живота. Поред мишићне масе, проценат мишићних влакана типа II заступљенији је код мушког пола, што резултира већом брзином и експлозивношћу, а самим тим и већом инциденцом спортских повре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 друге стране, код женског пола је примећено и то да су повреде предњег укрштеног лигемента (енг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erior cruciate ligament – ACL) 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чешће, и до пет пута. Неки аутори наводе хормоналне разлоге, други функцију мускулатуре која при ходу гура голењачу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ibia) 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пред, те је самим тим овај лигамент више изложен повреди. Ову појаву је могуће кориговати адекватним и правовременим вежбама и смањити инциденцу повре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утритивн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е препоруке: редуковати масти ≤ 30%, засићене масти &lt; 10%, холестерол &lt; 300 mg, пет или више пу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4724280" cy="2895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28600" y="205740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о сервирати воће и поврће, унос угљених хидрата пет пута дневно ≥ 50%, унос протеина у сваком оброку, адекватан унос микронутријената, минерала и витамина; кад спортиста задовољи ове препоруке, организам је у равнотежи и самим тим мање подложа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ђив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304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е пов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о које трпи велика напрезања и трауме има тенденцију измене у смислу структурних дегенеративних промена. У мишићима се стварају калцификати и фиброзно ткиво које није функционално и доводи до смањене еластичности и могућности контрак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3733920"/>
            <a:ext cx="4557600" cy="23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643280" y="3505320"/>
            <a:ext cx="45007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51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дисбалан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аки спорт има своје специфичности које се огледају у техници, брзини, издржљивости и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иљ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и ови аспекти носе извесне ризике од повређив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 различитим спортовима су различито ангажоване мишићне груп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ђутим, на самом почетку развоја спортиста греши ако ставља акценат на развој једне или више мишићних група, чиме несвесно ствара мишићне дисбалансе који нарушавају механику кинетичког лана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905360" y="4470480"/>
            <a:ext cx="4238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 сре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вис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ер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вентива хипертер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ите индекс мерача температуре и влажности (енг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wet-bulb globe temperature – WBGT) да бисте направили одговарајући план заштите од висок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нзумирајте довољно те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те веће паузе за одмор како бисте смањили производњу топл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Скратите време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жбајте у доба дана када су услови повољнији (рано ујутру, касније увеч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ца и старије особе треба да модификују активности у условима висок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вите најмање 3 h, а пожељно 6 х за опоравак и рехидратацију између трени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климатизација доводи д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унапређења одавањ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а кардиоваскуларне функ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ефикаснијег зној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а спортске способности и толеранциј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с аклиматизације може бити олакшан умереним вежбањем на врућини од 10 до 14 дана, с циљем стимулисања адаптације организма на вишу амбијенталну температу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тисти треба да уклоне што више одеће и опреме (посебно капе) и омогуће губитак топлоте, чиме смањују ризик од хипертермије, посебно у првим данима аклиматиз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 свих учесника, тренера и целог пратећег тима је неопходна ради препознавања знакова и симптома топлотне интолеранције, потребе за рехидратацијом, одмором и аклиматизациј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нашњи напредак спорта, велики број професионалаца, повећање напора и спонзорски уговори видно су утицали на све већу појаву спортских повреда, као и на настојања да те појаве превенирамо и лечим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лики број спортиста прекида каријеру - након повреде (чак и не тако озбиљне) и рехабилитације нису увек у ситуацији да се врате на терен и буду спремни да пруже максимални учин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877000" y="5513400"/>
            <a:ext cx="3267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52280" y="6854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Грешке приликом тренир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ортска повреда настаје у случају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е утренираности, или у случају претренираности организ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на обућа и опр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одлога спортског тер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Лоша кондиција и тех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ТА ТРЕБА УПАМТИТИ – ВАЖНЕ ПОРУК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е смернице за превенцију подразумевају дисциплину која се прожима кроз планиране циклусе, како предтакмичарски, тако и такмичарски, уз усклађивање свих активности важних за учинак спортисте: спавања, тренинга, исхране, хидратације и по потреби суплементације, опоравка, одмора и психолошке прип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иркадијалан ритам представља ритмичне промене организма током 24 часа, током којих организам пролази кроз разне фазе, а најважније је лучење хормона. Хормон раста се лучи нешто после поноћи, адренокортикотропни хормон око 6 h ујутру, а сат раније и кортиз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тска повреда настаје у случају недовољне утренираности, или у случају претренираности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4572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ве смернице за превенцију подразумевају дисциплину, како у предтакмичарском, тако и у такмичарском периоду, уз усклађивање свих активности важних за учинак спортисте, а то 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Спава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Тренин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храна, хидратација и по потреби суплемент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Одм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а припр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45684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авање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 студије показују да је спавање неопходно за одржавање метаболичко-калоријске равнотеже, топлотне равнотеже, одмора и компетентности имунског систе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5153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3805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енинзи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узмемо у обзир да је радна температура мишића изнад нормалне температуре огранизма, што је око 40°C, закључујемо како би требало да изгледа загревање које омогућава постизање адекватних услова пре започињања главног дела тренинг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0956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6458040" y="5067360"/>
            <a:ext cx="2685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380520"/>
            <a:ext cx="44956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хран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ланирање тренинга прати и добар план оброка за тај да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реме буђења и заказан тренинг би требало да одреде количину и састав хране, као и време оброка, који треба да обезбеде адекватну енергију, али и правовремено варење до почетка актив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M:\Users\Aleksandra-pc\Desktop\Slike za sportskufarmaciju\piramida_ishrane21.jpg"/>
          <p:cNvPicPr/>
          <p:nvPr/>
        </p:nvPicPr>
        <p:blipFill>
          <a:blip r:embed="rId1"/>
          <a:stretch/>
        </p:blipFill>
        <p:spPr>
          <a:xfrm>
            <a:off x="4483080" y="533520"/>
            <a:ext cx="46609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479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дратација уз исхрану чини важну карику у раду кардиоваскуларног, респираторног и локомоторног сист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хидриран организам је подложнији различитом степену повреда у односу на добро прокрвљена ткива, поготово ако се ради о мишићном апара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ба да прати динамику вежбања, јер спортиста не би требало да осећа жеђ, ни на тренингу, ни на такмич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76884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929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22860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днако је важан колико и сам тренин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еома је битно да кроз циклус темпирања форме обратимо пажњу на ниво дозирања обима и интензитета напора, с одговарајућим опоравк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ком директно утичемо не само на локомоторни апарат, него и на организам у цел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ога колико је одморан био спортиста кад је дошао на тренинг директно се повећава или смањује инциденција повред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57800" y="4640400"/>
            <a:ext cx="38862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456840"/>
            <a:ext cx="8610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дмор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акодневно прожима све фазе тренажног проце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једне стране имамо физички напор, а с друге одмор као еквивалент којим спортиста унапређује форму у припремним фазама, али и такмичарском 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спортиста нема избалансиран однос активности и одмора, може се наћи у добро познатом стању претренираности, што представља фактор који је директно одговоран за пад форме и појаву повре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1:01:17Z</dcterms:created>
  <dc:creator>Aleksandra-pc</dc:creator>
  <dc:description/>
  <dc:language>en-US</dc:language>
  <cp:lastModifiedBy>Vladimir Jakovljevic</cp:lastModifiedBy>
  <dcterms:modified xsi:type="dcterms:W3CDTF">2018-10-11T12:47:08Z</dcterms:modified>
  <cp:revision>31</cp:revision>
  <dc:subject/>
  <dc:title>ПРЕВЕНЦИЈА СПОРТСКИХ ПОВРЕДА</dc:title>
</cp:coreProperties>
</file>